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9.gif" ContentType="image/gif"/>
  <Override PartName="/ppt/media/image11.jpeg" ContentType="image/jpeg"/>
  <Override PartName="/ppt/media/image16.jpeg" ContentType="image/jpeg"/>
  <Override PartName="/ppt/media/image15.gif" ContentType="image/gif"/>
  <Override PartName="/ppt/media/image1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CF4C9-E6E6-4739-AB1F-0CE590AEEA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E467A-62B9-4FCA-A6A2-A8D958841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9EA2B9F-42A5-4911-A0D2-771AC3619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F3956AC-0E63-4E05-8259-CE33E76BE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C8DD1CB-C5EE-45EE-9DEA-725B8375B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ABF2F33-0D13-48FA-9BA1-DDF8C7560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42E0069-2DBA-4FC2-9759-03FADCF0F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3CC46A8-8098-4F88-BD5F-FDD06AC92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C46E8E8-F2E8-4CB6-AB3A-67DB5375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ED76D9-510C-4CDF-BF30-0D4F2A0A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0A80EED-9951-4649-8518-A8E3A34CA6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8759F-286D-487B-9204-C46DD5EC6E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2AA0C-1ED1-4F1F-B532-3BDC0BEC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3B836A-07D5-4C92-9D20-91FE5705E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3A5DC-61E2-4BCC-B848-513193AD4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228E8E-946E-4EA6-94F2-7BCA4182A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412AB-569F-4F33-B857-D4521BB7A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C1167-8819-47C1-8CA1-D1ADB8BA5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26430E-99BF-48D4-B6E3-F3299E7A1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E3B70-7A4B-4FA5-B38E-4D9439CB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24F20-FDA0-4E21-90A4-91DB015E0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2C45E-F836-4BC9-90D7-FA4151347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0ACE63-59FB-4E3B-AF03-9D50EB5F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0E375-FCC5-4A2B-9231-0C7343461E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1DC9DA-BDBB-4BE6-A35A-05600DF1FC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E109D3-374A-4EEE-9B70-662FD9A9F7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DD9CBB-5C9B-4BA7-843D-CCEA6418C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06C29C-0042-44D4-A724-174015BBA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BEB9A5-752F-45FA-BA4F-6F9F0BC18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80B762-A5B3-47F7-AFBB-B77C1FCA3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D405B8-6EFB-410D-9777-150A4642C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D48A1B-ECB0-474E-B2AF-F7F206AE5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546C53-76A4-4B03-B7FA-1D02AFB71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F6A870-FCCB-4894-A709-AD2CFC403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AB0D6D-DE74-4687-8F9E-1A0BBD53E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4B9129-D1BC-4444-B356-3BB70F3A5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D16623-BE8F-48CC-9020-F0C805E3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E9FEE7-2983-4545-B583-91B9908D43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643C23-EE3B-433E-9465-1695745D5C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01E782-D0AA-456F-8E05-07C1A4141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5BF5FA-98E1-4FB2-977C-42ECF47C4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6E70D5-676E-46E9-A782-1AD6C9CE6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44AA48-F6BD-4462-BA54-24B60B3EF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94062B-D0A3-463A-9C7A-C2FA09A39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D6BEF5-C355-4E3E-8D2E-DC59B4C11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898CF1-5FFB-4BBD-B707-496F89648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8847BB-D22F-4E20-8CA3-2A66170D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358D1C-DEA9-4F28-8A38-72EF9AB27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F6B37E-2A36-4358-A55A-07D9C496F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7A7090-6388-4BCB-B742-B4E22AE9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BDBCB7-87E7-4654-BD27-AF5CE35DD1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AC6B05-2508-4936-82DD-482981A6DF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46FE35-7CE5-4406-8A7F-33BE38537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D9CBC5-4E36-4142-8217-561A14DFC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89B235-93AF-4588-8A03-7F2D5A49F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8913F5-845D-463F-8679-BEBB517CE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94315B-04E0-4AC6-BEA2-93D6A5F62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B54022-5C99-4FD3-A8AF-F4D58FAF9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9FB5E6-6948-407B-B14E-87055D266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E5DA9E-7FD1-4639-980D-35055E732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AD1ACA-B2EF-4A7F-8B66-3DB8CC948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EB55BC-40BB-4FEB-82AD-2621B1C3F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3D2AFF-CB23-497D-9C02-099F5766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42ED59-E653-48FD-9576-449AA0D9E0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74943A-436F-4A6A-965F-045F25859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0C0E07-1CAE-4608-A77F-7D6F661FE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9D68C2-D3B8-48ED-9467-42497B8F8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A444D8-8EA8-44C0-90BD-4FB6D2F74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8624AE-AF2C-4049-80D7-B03D0E81E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368FAD-7B98-4E3B-870A-FC8D9C00D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A2220A-F78D-4AA3-8069-EE739BD26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4B5CDB-A60D-451D-8E11-9B8D81D5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628259-958F-438E-9B43-C5D3BBB9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0F820C-DD5F-49C7-9951-86FFC4A8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7A33EF-5C0C-4E5F-8FDD-A47003045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0E6CA7-3FF4-4881-8117-2D63BB397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813773-9CB0-4383-BF2F-C9DB74EBF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C81F2E-D2C4-41F8-B2BD-209601371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7D92FC-38CF-4394-854C-C7EF2920D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100CC8-0844-49AE-A22D-57BDA6D3D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A92C2E-F0D1-4A5B-92D6-60E6345AD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8BF05A-A10B-4FE3-8A8E-5F15A3EB5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875AA3-2FA8-477E-A9C5-515E95560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86C339-58AE-4D7B-B797-FB730F643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F73E5E-548F-4A3A-A5B1-11FFED73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B5DC8A-8A3E-4544-B2BC-BA38F8C5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7BE78F-9007-46BD-9B23-FBF27D32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320378-D0D2-427B-BD70-B81C0DB17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01C447-60CA-43C6-A8AC-758DE4A7A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34064F-BB39-4738-A8AD-A13773D6D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C35876-59C0-49DB-AD41-A70CF3FAB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0E5CB4-E087-4B18-B770-37FC1EFEB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CCB8B2-ACDF-45EA-860A-B1A05455E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064839-57CC-47FF-9BB7-0C6689152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654AB4-413C-4DF4-BE3C-404AE273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39341B-E047-4B59-A8E2-B92175190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CD2270-7DBF-4DF9-8D66-C069D04C0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2DDFEC-6747-4237-AFCE-13F47EAC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D8253E-6253-4EC8-A9DB-9A3C1DA0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A50BCA-F1E0-4992-8F2C-68B8AC2A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FB3D57-55F6-44E2-9AD8-6A2685D4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13CBC7-31C2-4329-9314-726B8A2FA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7BCD00-D49B-4FB4-90AE-794BB2478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AE5F40-35A0-4085-90C9-DAEAAB8FB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DE5324-5D8F-4A94-BF6E-96A1296A4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5564A9-8A66-4B2A-B36E-7766C4DC0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F24761-1AC0-42D1-B81B-8E13C65EC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7D62BF-1A68-4904-90CB-A8E3C40AA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516A36-D012-4B42-A10E-B1634A50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2ECED2-D4C1-4DA6-A6A6-26652F645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05D7AF-49E4-456D-87C8-1DA502D1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432C9-4F9A-4672-8D11-86E5D610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66FFED-CF50-400A-A30A-367B3E74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EF6E68-544B-4AA4-9850-714A74C4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58D44E-3DC5-49C9-B704-E63E0E48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3FE454-1801-48D8-829A-2DC595F6B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A43C50-2CF4-40D9-B37C-633818EE7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41BBD5-A441-4DB8-9AE4-E6806A3E1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DFD175-22C5-4BEE-9583-133E923FD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B3B955-4CA3-4CC9-B452-B538DB71E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458D7D-E1EE-49E3-9CA9-55A683C2D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C0EB55-2B62-4E02-A9E1-8E0211E5C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5812E9-1A1C-43B5-A83F-D01BCD5D5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7C2A28-9969-4E25-AF16-E28BB43D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71705B-959A-4E35-93D5-E9E03A141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FCF10E-71AA-4D8E-B59F-C00E77C3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ECCFDD-9496-49A2-A825-49EC0D55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24514F-16FE-4ED1-AC32-FCAC157F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9F9EC9-C684-4099-83B2-55B637576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9471A6-7C92-411E-BA27-515D63161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DD00D2-1F7F-41F9-9195-825FCD7FF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981903-33FA-438D-9844-306883BBC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B1E250-876D-401C-BDBB-73317AEB1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061C28-338C-41B4-89F4-08BF16915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7727DE-4088-4CFC-9BDD-E82A48FC6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1F5CCE-959D-4493-B1D3-F9D4A90CD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A53B32-0BDF-4C7C-884B-04DF9DD47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2F8E87-317A-44A3-AEAD-0185A8EAD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651C72-96D3-4D54-8201-42083FF1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8043E8-16F0-4EFE-B9F2-E3E648BB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DA7019-F718-4FB0-A0D2-BD4220A4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49FD3D-D752-4C7F-BEBF-233C87793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F93A3A-FF32-41B8-B05E-7693BBD62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1958F1-F0D1-4F1D-AE19-E1AC7104C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ACE60F-B814-4B79-9A55-176A866F7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985AA5-2F01-4C59-AFFF-52A02986C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0FD529-7C40-4974-B780-B6DA43311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6A549E-0853-48E5-826A-B0E808C50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AFEF6B-D8A5-42AF-9660-B3BFDB5BC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0E5ABD-5F69-43C9-A77C-3A24494D5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299CF3-9825-4C1B-B637-B773F1C24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17A004-B818-41EE-9578-98F6A9E5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223FE7-C57D-45EF-87D5-530904B4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749B21-E977-4CB9-9B98-4020E7B4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80EEA6-CFA9-4659-8590-9C963E31A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17EA40-6FE5-4C5D-9E66-126168B68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F79240-3FDB-49E8-8225-8E3ADB8B4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FCD4EE-C169-40B5-81CB-A33B980C0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477B64-DBB1-4019-8DAB-9079BF3C3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2D5B14-DFD4-4D1A-86E0-AD58F5262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3784D5-59CE-4F22-9F08-D9881786A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849C06-5CA6-47DB-9FF8-E17E0869B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9FD886-8F00-4E6B-AD7B-77A7D7BAF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971342-65E9-4340-BD47-15C098284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3A3FCD-3960-435C-A733-1DAA525F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395B2D-ABE9-4AD3-AD8C-CD33DBE7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8952E4-9021-4284-88BD-657A08B9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A236C9-F754-4307-B8E4-A2C1EBD95D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7F1A7C-3D99-44F8-A38A-0F48D1C35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2814CF-5101-470A-BB69-9F266B5A4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F77261-E051-4199-A82A-0CA595F71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2A1995-FA4A-4FE6-B8EF-D327361BC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9DCEE5-4A8A-4A92-9308-153C0C099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113C16-C0F2-4E3D-B46D-B81DFFC28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0246F0-32E4-40DE-B710-0C5E7B9F9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21F1F3-A8DE-4E50-8A91-2C4EC560D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B3D491-BE35-4E2B-9B8F-C30E7E15B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E87FAE-C77A-4078-96AF-A1DFDB62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D2ABE4-8C55-4921-906B-40140D4B6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F190CB-36DE-4B17-8E57-B5239D4D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F0C7E6-2C1B-4A68-9378-2751F963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84A235-38AE-4635-B0C3-7B8E42A03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CE39D4-45A1-427A-88C2-A1CC0AC1D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61F473-0928-49DE-AD67-F74051027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98B378-10DE-4DAB-9EED-1883D1FDB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1C273C-10A3-4E40-AE6C-68AA42754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694F4D-AC4D-4CDD-8BFB-C5680E438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3E9715-FFC7-4EC7-A957-B653E6F6A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40868C-5D77-4D97-91B8-1548ABBDC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4C8EBE-2C12-4D44-97F1-C712C05FF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0C6420-B30A-420E-B47F-8FADBD598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A83D17-4622-4C59-8F4F-B973B6BF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D3A4F3-93D4-441C-9B5E-A6BAB346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77035E-7A9A-4486-8181-8AE1D7AA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A240BB-B321-4577-887A-0CA52BAF5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19C916-2907-4BEE-878B-FAD2F3DC9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FD801F-4AF0-423C-B6A0-2EF101363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60B217-96FD-48FC-870A-22F10D5B5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A20B90-9EEF-4D44-9CBD-ECF89A054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B9448E-C3B9-4011-A460-A5F52397F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F58053-4E26-440F-B687-C07CA1B91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86F00B-CF94-414A-9BDF-11AFDC5DC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7116F2-B4CF-4B6D-84F6-44503159A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C1A1FD-69D2-4434-9294-244B5A49B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C2FFA7-9BC3-4BF4-BEFB-2702E533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A415D3-3171-4C2C-B829-3D42D813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8A802B-0D7F-448C-A928-CD1C285E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EDB0D6-2A93-4322-B6C8-984864242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96BBD2-DF8F-4C2D-BB31-E6A38E5E1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2539AB-38AF-4BFE-9EFB-4D0D43965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91B804-0BFD-4F93-A679-85487CEFC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CC38A-A1B6-448B-8076-B6F3CB4F0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E18CB2-BCA9-4703-9BC5-299F8CFE3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96D805-E74D-4C9F-B47E-364519C59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0562A2-E80C-481B-AEB6-94EEE631E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1B0BBB-8661-41CE-9E2A-73C9163DB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94D0D0-289C-4D03-8A9D-50E7FD845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807F13-6D68-4553-8903-0EE71EC3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59608A-5657-4054-80A0-3F3CF192E6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49D4C-5D68-4F41-8FA2-6A24DA13DB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A7BD1-BFFB-4A61-84C6-27A3CA239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117A9-E751-4AAA-A2C7-70B332F81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ED642-1102-4E27-AF94-444601800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15390-9792-4296-9674-C53FBA995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12426-BBCE-428A-9A26-CAFCEAB5D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675DC-9076-4969-8C83-AFD6A7F19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CBE36-920A-4BA9-A7EB-F07A5DB1E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157C8-F51D-4046-9F88-654C120A0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E81A9-DAE1-4E93-85FC-6C3669E85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3CED7-7387-4F41-91ED-999DDFAD0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82D48-A7D3-4ED5-8721-21C8D25D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BEAAC-933D-4DD1-9A38-00E374BF1C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44F94B-3B94-404E-9A53-93FC839EEE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75558-05ED-4E0A-9C44-0BFE0BB92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7EE39F-C106-4D57-91D2-D773BDEA6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0DC982-0F9F-4312-8911-31B46E220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5AB4DD-9413-4D5B-BF58-2FCA1FD27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A54899-73B7-4384-BE8E-E577F8E9F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D8C30E-D12E-49C9-92F7-0A2AB60BA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FBA64B-991E-4DCE-A5D4-2F20A5980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4C6440-6B06-489B-A5F9-BE138C28E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AB00DC-3AD1-4FB6-9FA4-32FCBCF2F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2E4E4E-125A-40E7-B780-D2E5EBED2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DF6090-13BC-4B20-9109-48C6164A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F462E-217F-4F6C-AC13-15AD5115F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C32572-0CBB-4E3B-8C1B-6EBE3B2C34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F5E640-6CBB-4154-A88A-9C7E024DC5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7313BB-C964-47E9-8C3A-FD7DB2789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791E81-79D2-49FA-A1E5-601101547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437D1EE-6684-444E-9F79-5679247F9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EFF88F-38A9-4D69-80D3-8044B1F45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4C0698-1176-421A-A2AF-4CD8BD38F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32337A-A476-4804-BAFC-DA7FC2450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E39A4B-B443-43E8-B02A-FE578A7CC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36FFAFE-C5C7-4A5F-98A1-14E74BF23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812BC-FC6A-4431-B095-AB1F3D49E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149C04-6D03-4522-A6B8-D4347244B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B21CC6E-F364-474C-A831-275B52DD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FEDA2B2-0F8D-42FE-AD56-81DD2E5A19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A4CC4-B4A3-4040-994E-AA71218EAD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628A0-17A7-4D61-972C-29BD7B713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1FDCC-AE8A-4DCD-A342-D39271928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C0CEC-7344-48AB-913F-8273834EF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85A18-FBD6-4BFE-85F3-12CC1DF9F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7F1E3-A60B-42F2-B703-E9263D359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3E031-A4C9-4563-836E-D6991090C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89269-B30E-4BBF-88C2-3B65741AD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47907-698F-4AB8-82A4-90870C11C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E20CA-5032-4D24-8D76-D81857EED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6007E-89FB-4430-9DB5-528A773F5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20FF8-C25F-44C4-A8E6-EB1B3FFD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ACCBF-A9A3-4177-9BCF-AA3B537BD4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4AE0B9-ACCD-4734-B7F7-56D7AB4DF2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38BE53-521D-4F31-862F-5B5ACEC63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6AF6A5-A25B-4071-8EDE-632B913F0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15E4D8-7CC1-4999-ABC5-C2A50CD76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3FBFB6-1F74-4D34-A6C9-53CFCFB8F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16530-E0B8-49FD-8C63-A8203A7A1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E5E293-26FB-4D07-8B0C-B3BDBD4AC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54DD80-B147-4CF8-8BDC-30574DB42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5E6368-F708-4AE8-A701-65738BA1B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E9EFC3-2B2E-43DB-B1BC-815AAE14F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9FDF16-85FA-419B-A042-46E415F32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B355CA-6FD0-4BE5-AD4F-E351579A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EF18A3-19DB-4B13-A638-2BDACFEA39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A22B42-CB21-448B-99C7-46B80180A4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3D50906-CD09-4D26-A57C-7D420B4A5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3A11319-0479-4A9A-8002-87BACF24D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3045A-A8D0-426E-A8B8-1AAB1E2EB0A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A126-7036-4057-AA55-8938F2429D5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A291A-7AFA-4FC1-96CC-DC9216FA720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AA020-34CB-4961-9C7A-8DE193606F8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356D3-AAAC-4095-AA2B-694A2234798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5208B-E277-4CD1-B0BF-7BF604C3ACF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76BDA-4178-4DF6-BB5B-5E3CF7457D6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4A471-7862-4E7D-8E6B-B7B0A8EA61E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C90A0-E3EB-4139-B442-F6BD03D385A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DC069-5039-410E-9B74-8736492B871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A57C4-E8FE-4524-BE8D-9DADC6B28E1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D25C3-CC4E-4655-A103-A305A0DAF4C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5EC4B-45C2-4E5A-A917-C92CC930A7E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3CFC0-CC0F-4F67-ACD3-ECE86AB95F6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BC1FF-2EF6-4A5D-920A-806296C89F0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675F4-385A-4134-BAD8-6D2F050465C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96456-A64B-4F05-9826-34EE6B308B8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9BD99-20F9-4B8F-AEBF-C501A658926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B27D5-6917-47B6-99F0-A5DF5B2A363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6E8BE-5A6C-4DBF-9A76-E4DC90DBD16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D0A5C-BBCB-40AF-8D4B-89F5925DE29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87246-9077-444A-B4DA-42CF5BB9142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CC827-3A59-41DE-8ECD-EB58252FEA2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0DF1C-D863-455D-825D-188CCDD86C5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gif"/><Relationship Id="rId9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1.jpeg"/><Relationship Id="rId17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四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3041640" y="2689200"/>
            <a:ext cx="558720" cy="46368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352440" y="2647800"/>
            <a:ext cx="8445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口 算 除 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284560" y="2448000"/>
            <a:ext cx="5621040" cy="360"/>
            <a:chOff x="2284560" y="2448000"/>
            <a:chExt cx="5621040" cy="360"/>
          </a:xfrm>
        </p:grpSpPr>
        <p:sp>
          <p:nvSpPr>
            <p:cNvPr id="990" name="Line 10"/>
            <p:cNvSpPr/>
            <p:nvPr/>
          </p:nvSpPr>
          <p:spPr>
            <a:xfrm>
              <a:off x="2284560" y="2448000"/>
              <a:ext cx="562104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>
              <a:off x="2284560" y="2448000"/>
              <a:ext cx="5621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464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6760" y="1879560"/>
            <a:ext cx="357120" cy="5954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168120" y="1744560"/>
            <a:ext cx="793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除数是两位数的除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1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72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73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74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5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6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7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8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9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0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1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82" name="Rectangle 64"/>
          <p:cNvSpPr/>
          <p:nvPr/>
        </p:nvSpPr>
        <p:spPr>
          <a:xfrm>
            <a:off x="438120" y="130320"/>
            <a:ext cx="2648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五、拓展训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文本框 99"/>
          <p:cNvSpPr/>
          <p:nvPr/>
        </p:nvSpPr>
        <p:spPr>
          <a:xfrm>
            <a:off x="293760" y="907920"/>
            <a:ext cx="8062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直接写出得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400÷80=      420÷60=      180÷20=       150÷30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50×4=        80×2=        80×6=         60÷20=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240÷40=      150÷50=      280÷40=       400÷50=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560÷70=      490÷70=      540÷90=       720÷80=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360÷40=      480÷80=      560÷70=       200×4=  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文本框 1"/>
          <p:cNvSpPr/>
          <p:nvPr/>
        </p:nvSpPr>
        <p:spPr>
          <a:xfrm>
            <a:off x="1876320" y="1494000"/>
            <a:ext cx="4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文本框 2"/>
          <p:cNvSpPr/>
          <p:nvPr/>
        </p:nvSpPr>
        <p:spPr>
          <a:xfrm>
            <a:off x="3726000" y="1508040"/>
            <a:ext cx="4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文本框 3"/>
          <p:cNvSpPr/>
          <p:nvPr/>
        </p:nvSpPr>
        <p:spPr>
          <a:xfrm>
            <a:off x="5438880" y="1498680"/>
            <a:ext cx="4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文本框 4"/>
          <p:cNvSpPr/>
          <p:nvPr/>
        </p:nvSpPr>
        <p:spPr>
          <a:xfrm>
            <a:off x="7359480" y="1482840"/>
            <a:ext cx="4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文本框 7"/>
          <p:cNvSpPr/>
          <p:nvPr/>
        </p:nvSpPr>
        <p:spPr>
          <a:xfrm>
            <a:off x="1666800" y="194940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文本框 8"/>
          <p:cNvSpPr/>
          <p:nvPr/>
        </p:nvSpPr>
        <p:spPr>
          <a:xfrm>
            <a:off x="3463920" y="1955880"/>
            <a:ext cx="6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1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文本框 9"/>
          <p:cNvSpPr/>
          <p:nvPr/>
        </p:nvSpPr>
        <p:spPr>
          <a:xfrm>
            <a:off x="5176800" y="1946160"/>
            <a:ext cx="590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4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文本框 10"/>
          <p:cNvSpPr/>
          <p:nvPr/>
        </p:nvSpPr>
        <p:spPr>
          <a:xfrm>
            <a:off x="7264440" y="1938240"/>
            <a:ext cx="4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文本框 12"/>
          <p:cNvSpPr/>
          <p:nvPr/>
        </p:nvSpPr>
        <p:spPr>
          <a:xfrm>
            <a:off x="1862280" y="2397240"/>
            <a:ext cx="4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文本框 14"/>
          <p:cNvSpPr/>
          <p:nvPr/>
        </p:nvSpPr>
        <p:spPr>
          <a:xfrm>
            <a:off x="3711600" y="2411280"/>
            <a:ext cx="4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文本框 15"/>
          <p:cNvSpPr/>
          <p:nvPr/>
        </p:nvSpPr>
        <p:spPr>
          <a:xfrm>
            <a:off x="5424480" y="2401920"/>
            <a:ext cx="4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文本框 16"/>
          <p:cNvSpPr/>
          <p:nvPr/>
        </p:nvSpPr>
        <p:spPr>
          <a:xfrm>
            <a:off x="7345440" y="2386080"/>
            <a:ext cx="4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文本框 17"/>
          <p:cNvSpPr/>
          <p:nvPr/>
        </p:nvSpPr>
        <p:spPr>
          <a:xfrm>
            <a:off x="1871640" y="2863800"/>
            <a:ext cx="4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文本框 18"/>
          <p:cNvSpPr/>
          <p:nvPr/>
        </p:nvSpPr>
        <p:spPr>
          <a:xfrm>
            <a:off x="3720960" y="2878200"/>
            <a:ext cx="4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文本框 19"/>
          <p:cNvSpPr/>
          <p:nvPr/>
        </p:nvSpPr>
        <p:spPr>
          <a:xfrm>
            <a:off x="5433840" y="2870280"/>
            <a:ext cx="4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文本框 20"/>
          <p:cNvSpPr/>
          <p:nvPr/>
        </p:nvSpPr>
        <p:spPr>
          <a:xfrm>
            <a:off x="7354800" y="2852640"/>
            <a:ext cx="4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文本框 21"/>
          <p:cNvSpPr/>
          <p:nvPr/>
        </p:nvSpPr>
        <p:spPr>
          <a:xfrm>
            <a:off x="1854360" y="3305160"/>
            <a:ext cx="4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文本框 22"/>
          <p:cNvSpPr/>
          <p:nvPr/>
        </p:nvSpPr>
        <p:spPr>
          <a:xfrm>
            <a:off x="3703680" y="3317760"/>
            <a:ext cx="4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文本框 23"/>
          <p:cNvSpPr/>
          <p:nvPr/>
        </p:nvSpPr>
        <p:spPr>
          <a:xfrm>
            <a:off x="5416560" y="3309840"/>
            <a:ext cx="4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文本框 24"/>
          <p:cNvSpPr/>
          <p:nvPr/>
        </p:nvSpPr>
        <p:spPr>
          <a:xfrm>
            <a:off x="7210440" y="3308400"/>
            <a:ext cx="79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8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4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205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06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207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08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9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10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1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2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3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4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15" name="Rectangle 64"/>
          <p:cNvSpPr/>
          <p:nvPr/>
        </p:nvSpPr>
        <p:spPr>
          <a:xfrm>
            <a:off x="438120" y="130320"/>
            <a:ext cx="2648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五、拓展训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文本框 99"/>
          <p:cNvSpPr/>
          <p:nvPr/>
        </p:nvSpPr>
        <p:spPr>
          <a:xfrm>
            <a:off x="293760" y="907920"/>
            <a:ext cx="8062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直接写出得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400÷80=      420÷60=      180÷20=       150÷30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50×4=        80×2=        80×6=         60÷20=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240÷40=      150÷50=      280÷40=       400÷50=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560÷70=      490÷70=      540÷90=       720÷80=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360÷40=      480÷80=      560÷70=       200×4=  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文本框 1"/>
          <p:cNvSpPr/>
          <p:nvPr/>
        </p:nvSpPr>
        <p:spPr>
          <a:xfrm>
            <a:off x="1876320" y="1494000"/>
            <a:ext cx="4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文本框 2"/>
          <p:cNvSpPr/>
          <p:nvPr/>
        </p:nvSpPr>
        <p:spPr>
          <a:xfrm>
            <a:off x="3726000" y="1508040"/>
            <a:ext cx="4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文本框 3"/>
          <p:cNvSpPr/>
          <p:nvPr/>
        </p:nvSpPr>
        <p:spPr>
          <a:xfrm>
            <a:off x="5438880" y="1498680"/>
            <a:ext cx="4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文本框 4"/>
          <p:cNvSpPr/>
          <p:nvPr/>
        </p:nvSpPr>
        <p:spPr>
          <a:xfrm>
            <a:off x="7359480" y="1482840"/>
            <a:ext cx="4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文本框 7"/>
          <p:cNvSpPr/>
          <p:nvPr/>
        </p:nvSpPr>
        <p:spPr>
          <a:xfrm>
            <a:off x="1666800" y="194940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文本框 8"/>
          <p:cNvSpPr/>
          <p:nvPr/>
        </p:nvSpPr>
        <p:spPr>
          <a:xfrm>
            <a:off x="3463920" y="1955880"/>
            <a:ext cx="6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1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文本框 9"/>
          <p:cNvSpPr/>
          <p:nvPr/>
        </p:nvSpPr>
        <p:spPr>
          <a:xfrm>
            <a:off x="5176800" y="1946160"/>
            <a:ext cx="590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4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文本框 10"/>
          <p:cNvSpPr/>
          <p:nvPr/>
        </p:nvSpPr>
        <p:spPr>
          <a:xfrm>
            <a:off x="7264440" y="1938240"/>
            <a:ext cx="4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文本框 12"/>
          <p:cNvSpPr/>
          <p:nvPr/>
        </p:nvSpPr>
        <p:spPr>
          <a:xfrm>
            <a:off x="1862280" y="2397240"/>
            <a:ext cx="4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文本框 14"/>
          <p:cNvSpPr/>
          <p:nvPr/>
        </p:nvSpPr>
        <p:spPr>
          <a:xfrm>
            <a:off x="3711600" y="2411280"/>
            <a:ext cx="4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文本框 15"/>
          <p:cNvSpPr/>
          <p:nvPr/>
        </p:nvSpPr>
        <p:spPr>
          <a:xfrm>
            <a:off x="5424480" y="2401920"/>
            <a:ext cx="4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文本框 16"/>
          <p:cNvSpPr/>
          <p:nvPr/>
        </p:nvSpPr>
        <p:spPr>
          <a:xfrm>
            <a:off x="7345440" y="2386080"/>
            <a:ext cx="4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文本框 17"/>
          <p:cNvSpPr/>
          <p:nvPr/>
        </p:nvSpPr>
        <p:spPr>
          <a:xfrm>
            <a:off x="1871640" y="2863800"/>
            <a:ext cx="4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文本框 18"/>
          <p:cNvSpPr/>
          <p:nvPr/>
        </p:nvSpPr>
        <p:spPr>
          <a:xfrm>
            <a:off x="3720960" y="2878200"/>
            <a:ext cx="4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文本框 19"/>
          <p:cNvSpPr/>
          <p:nvPr/>
        </p:nvSpPr>
        <p:spPr>
          <a:xfrm>
            <a:off x="5433840" y="2870280"/>
            <a:ext cx="4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文本框 20"/>
          <p:cNvSpPr/>
          <p:nvPr/>
        </p:nvSpPr>
        <p:spPr>
          <a:xfrm>
            <a:off x="7354800" y="2852640"/>
            <a:ext cx="4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文本框 21"/>
          <p:cNvSpPr/>
          <p:nvPr/>
        </p:nvSpPr>
        <p:spPr>
          <a:xfrm>
            <a:off x="1854360" y="3305160"/>
            <a:ext cx="4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文本框 22"/>
          <p:cNvSpPr/>
          <p:nvPr/>
        </p:nvSpPr>
        <p:spPr>
          <a:xfrm>
            <a:off x="3703680" y="3317760"/>
            <a:ext cx="4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文本框 23"/>
          <p:cNvSpPr/>
          <p:nvPr/>
        </p:nvSpPr>
        <p:spPr>
          <a:xfrm>
            <a:off x="5416560" y="3309840"/>
            <a:ext cx="4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文本框 24"/>
          <p:cNvSpPr/>
          <p:nvPr/>
        </p:nvSpPr>
        <p:spPr>
          <a:xfrm>
            <a:off x="7210440" y="3308400"/>
            <a:ext cx="79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8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999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01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9" name="TextBox 1"/>
          <p:cNvSpPr/>
          <p:nvPr/>
        </p:nvSpPr>
        <p:spPr>
          <a:xfrm>
            <a:off x="500040" y="1112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一、创设情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Box 2"/>
          <p:cNvSpPr/>
          <p:nvPr/>
        </p:nvSpPr>
        <p:spPr>
          <a:xfrm>
            <a:off x="857160" y="10000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口算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0×3=          60÷3=          30×9=          270÷3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39÷4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≈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      84÷6=          31÷3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≈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      72÷4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6÷5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≈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      54÷3=          43÷6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≈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      75÷5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Box 3"/>
          <p:cNvSpPr/>
          <p:nvPr/>
        </p:nvSpPr>
        <p:spPr>
          <a:xfrm>
            <a:off x="1917720" y="1936800"/>
            <a:ext cx="500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6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Box 4"/>
          <p:cNvSpPr/>
          <p:nvPr/>
        </p:nvSpPr>
        <p:spPr>
          <a:xfrm>
            <a:off x="3675240" y="1932120"/>
            <a:ext cx="500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Box 6"/>
          <p:cNvSpPr/>
          <p:nvPr/>
        </p:nvSpPr>
        <p:spPr>
          <a:xfrm>
            <a:off x="5576760" y="1940040"/>
            <a:ext cx="500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27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Box 7"/>
          <p:cNvSpPr/>
          <p:nvPr/>
        </p:nvSpPr>
        <p:spPr>
          <a:xfrm>
            <a:off x="7532640" y="1932120"/>
            <a:ext cx="500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9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Box 8"/>
          <p:cNvSpPr/>
          <p:nvPr/>
        </p:nvSpPr>
        <p:spPr>
          <a:xfrm>
            <a:off x="1739880" y="2602080"/>
            <a:ext cx="500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TextBox 9"/>
          <p:cNvSpPr/>
          <p:nvPr/>
        </p:nvSpPr>
        <p:spPr>
          <a:xfrm>
            <a:off x="3479760" y="2597040"/>
            <a:ext cx="500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Box 10"/>
          <p:cNvSpPr/>
          <p:nvPr/>
        </p:nvSpPr>
        <p:spPr>
          <a:xfrm>
            <a:off x="5273640" y="2597040"/>
            <a:ext cx="500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Box 11"/>
          <p:cNvSpPr/>
          <p:nvPr/>
        </p:nvSpPr>
        <p:spPr>
          <a:xfrm>
            <a:off x="7024680" y="2587680"/>
            <a:ext cx="500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Box 12"/>
          <p:cNvSpPr/>
          <p:nvPr/>
        </p:nvSpPr>
        <p:spPr>
          <a:xfrm>
            <a:off x="1792440" y="3282840"/>
            <a:ext cx="500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Box 13"/>
          <p:cNvSpPr/>
          <p:nvPr/>
        </p:nvSpPr>
        <p:spPr>
          <a:xfrm>
            <a:off x="3497400" y="3294000"/>
            <a:ext cx="500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Box 14"/>
          <p:cNvSpPr/>
          <p:nvPr/>
        </p:nvSpPr>
        <p:spPr>
          <a:xfrm>
            <a:off x="5372280" y="3309840"/>
            <a:ext cx="500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Box 15"/>
          <p:cNvSpPr/>
          <p:nvPr/>
        </p:nvSpPr>
        <p:spPr>
          <a:xfrm>
            <a:off x="7040520" y="3319560"/>
            <a:ext cx="500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3" name="组合 19"/>
          <p:cNvGrpSpPr/>
          <p:nvPr/>
        </p:nvGrpSpPr>
        <p:grpSpPr>
          <a:xfrm>
            <a:off x="1714680" y="4286160"/>
            <a:ext cx="5830560" cy="1285560"/>
            <a:chOff x="1714680" y="4286160"/>
            <a:chExt cx="5830560" cy="1285560"/>
          </a:xfrm>
        </p:grpSpPr>
        <p:pic>
          <p:nvPicPr>
            <p:cNvPr id="1024" name="图片 18" descr="E:\2017秋上·黄倩\其他\人\蜜蜂.gif蜜蜂"/>
            <p:cNvPicPr/>
            <p:nvPr/>
          </p:nvPicPr>
          <p:blipFill>
            <a:blip r:embed="rId8"/>
            <a:stretch/>
          </p:blipFill>
          <p:spPr>
            <a:xfrm>
              <a:off x="6508440" y="4428720"/>
              <a:ext cx="10368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5" name="TextBox 16"/>
            <p:cNvSpPr/>
            <p:nvPr/>
          </p:nvSpPr>
          <p:spPr>
            <a:xfrm>
              <a:off x="1785960" y="4286160"/>
              <a:ext cx="9140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除数是两位数的除法怎样口算呢？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圆角矩形标注 17"/>
            <p:cNvSpPr/>
            <p:nvPr/>
          </p:nvSpPr>
          <p:spPr>
            <a:xfrm>
              <a:off x="1714680" y="4286160"/>
              <a:ext cx="4857120" cy="500040"/>
            </a:xfrm>
            <a:prstGeom prst="wedgeRoundRectCallout">
              <a:avLst>
                <a:gd name="adj1" fmla="val 48490"/>
                <a:gd name="adj2" fmla="val 93717"/>
                <a:gd name="adj3" fmla="val 16667"/>
              </a:avLst>
            </a:prstGeom>
            <a:noFill/>
            <a:ln w="2556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7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28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29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30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1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2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3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4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5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6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7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38" name="TextBox 1"/>
          <p:cNvSpPr/>
          <p:nvPr/>
        </p:nvSpPr>
        <p:spPr>
          <a:xfrm>
            <a:off x="357120" y="1429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二、自主探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文本框 5134"/>
          <p:cNvSpPr/>
          <p:nvPr/>
        </p:nvSpPr>
        <p:spPr>
          <a:xfrm>
            <a:off x="1389240" y="4735440"/>
            <a:ext cx="62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宋体"/>
              </a:rPr>
              <a:t>想一想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3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</a:rPr>
              <a:t>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≈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</a:rPr>
              <a:t>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≈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0" name="组合 49"/>
          <p:cNvGrpSpPr/>
          <p:nvPr/>
        </p:nvGrpSpPr>
        <p:grpSpPr>
          <a:xfrm>
            <a:off x="919080" y="2284560"/>
            <a:ext cx="6927480" cy="1150920"/>
            <a:chOff x="919080" y="2284560"/>
            <a:chExt cx="6927480" cy="1150920"/>
          </a:xfrm>
        </p:grpSpPr>
        <p:grpSp>
          <p:nvGrpSpPr>
            <p:cNvPr id="1041" name="Group 86"/>
            <p:cNvGrpSpPr/>
            <p:nvPr/>
          </p:nvGrpSpPr>
          <p:grpSpPr>
            <a:xfrm>
              <a:off x="2684520" y="2381400"/>
              <a:ext cx="1376280" cy="1000080"/>
              <a:chOff x="2684520" y="2381400"/>
              <a:chExt cx="1376280" cy="1000080"/>
            </a:xfrm>
          </p:grpSpPr>
          <p:pic>
            <p:nvPicPr>
              <p:cNvPr id="1042" name="Picture 87" descr="55"/>
              <p:cNvPicPr/>
              <p:nvPr/>
            </p:nvPicPr>
            <p:blipFill>
              <a:blip r:embed="rId8"/>
              <a:stretch/>
            </p:blipFill>
            <p:spPr>
              <a:xfrm>
                <a:off x="2684520" y="2381400"/>
                <a:ext cx="712080" cy="10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3" name="Picture 88" descr="55"/>
              <p:cNvPicPr/>
              <p:nvPr/>
            </p:nvPicPr>
            <p:blipFill>
              <a:blip r:embed="rId9"/>
              <a:stretch/>
            </p:blipFill>
            <p:spPr>
              <a:xfrm>
                <a:off x="3348720" y="2381400"/>
                <a:ext cx="712080" cy="1000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44" name="Group 91"/>
            <p:cNvGrpSpPr/>
            <p:nvPr/>
          </p:nvGrpSpPr>
          <p:grpSpPr>
            <a:xfrm>
              <a:off x="4543560" y="2381400"/>
              <a:ext cx="1360440" cy="1000080"/>
              <a:chOff x="4543560" y="2381400"/>
              <a:chExt cx="1360440" cy="1000080"/>
            </a:xfrm>
          </p:grpSpPr>
          <p:pic>
            <p:nvPicPr>
              <p:cNvPr id="1045" name="Picture 92" descr="55"/>
              <p:cNvPicPr/>
              <p:nvPr/>
            </p:nvPicPr>
            <p:blipFill>
              <a:blip r:embed="rId10"/>
              <a:stretch/>
            </p:blipFill>
            <p:spPr>
              <a:xfrm>
                <a:off x="4543560" y="2381400"/>
                <a:ext cx="711720" cy="10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6" name="Picture 93" descr="55"/>
              <p:cNvPicPr/>
              <p:nvPr/>
            </p:nvPicPr>
            <p:blipFill>
              <a:blip r:embed="rId11"/>
              <a:stretch/>
            </p:blipFill>
            <p:spPr>
              <a:xfrm>
                <a:off x="5192280" y="2381400"/>
                <a:ext cx="711720" cy="1000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47" name="Group 96"/>
            <p:cNvGrpSpPr/>
            <p:nvPr/>
          </p:nvGrpSpPr>
          <p:grpSpPr>
            <a:xfrm>
              <a:off x="6434280" y="2381400"/>
              <a:ext cx="1412280" cy="1000080"/>
              <a:chOff x="6434280" y="2381400"/>
              <a:chExt cx="1412280" cy="1000080"/>
            </a:xfrm>
          </p:grpSpPr>
          <p:pic>
            <p:nvPicPr>
              <p:cNvPr id="1048" name="Picture 97" descr="55"/>
              <p:cNvPicPr/>
              <p:nvPr/>
            </p:nvPicPr>
            <p:blipFill>
              <a:blip r:embed="rId12"/>
              <a:stretch/>
            </p:blipFill>
            <p:spPr>
              <a:xfrm>
                <a:off x="6434280" y="2381400"/>
                <a:ext cx="712440" cy="10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9" name="Picture 98" descr="55"/>
              <p:cNvPicPr/>
              <p:nvPr/>
            </p:nvPicPr>
            <p:blipFill>
              <a:blip r:embed="rId13"/>
              <a:stretch/>
            </p:blipFill>
            <p:spPr>
              <a:xfrm>
                <a:off x="7134120" y="2381400"/>
                <a:ext cx="712440" cy="1000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0" name=""/>
            <p:cNvGrpSpPr/>
            <p:nvPr/>
          </p:nvGrpSpPr>
          <p:grpSpPr>
            <a:xfrm>
              <a:off x="2401920" y="2284560"/>
              <a:ext cx="360" cy="1150920"/>
              <a:chOff x="2401920" y="2284560"/>
              <a:chExt cx="360" cy="1150920"/>
            </a:xfrm>
          </p:grpSpPr>
          <p:sp>
            <p:nvSpPr>
              <p:cNvPr id="1051" name="直接连接符 17"/>
              <p:cNvSpPr/>
              <p:nvPr/>
            </p:nvSpPr>
            <p:spPr>
              <a:xfrm>
                <a:off x="2401920" y="2284560"/>
                <a:ext cx="0" cy="1150920"/>
              </a:xfrm>
              <a:prstGeom prst="line">
                <a:avLst/>
              </a:prstGeom>
              <a:ln w="12600">
                <a:solidFill>
                  <a:srgbClr val="ff0000"/>
                </a:solidFill>
                <a:prstDash val="sys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 txBox="1"/>
              <p:nvPr/>
            </p:nvSpPr>
            <p:spPr>
              <a:xfrm>
                <a:off x="2401920" y="2284560"/>
                <a:ext cx="360" cy="1150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3" name=""/>
            <p:cNvGrpSpPr/>
            <p:nvPr/>
          </p:nvGrpSpPr>
          <p:grpSpPr>
            <a:xfrm>
              <a:off x="4278240" y="2284560"/>
              <a:ext cx="360" cy="1150920"/>
              <a:chOff x="4278240" y="2284560"/>
              <a:chExt cx="360" cy="1150920"/>
            </a:xfrm>
          </p:grpSpPr>
          <p:sp>
            <p:nvSpPr>
              <p:cNvPr id="1054" name="直接连接符 18"/>
              <p:cNvSpPr/>
              <p:nvPr/>
            </p:nvSpPr>
            <p:spPr>
              <a:xfrm>
                <a:off x="4278240" y="2284560"/>
                <a:ext cx="0" cy="1150920"/>
              </a:xfrm>
              <a:prstGeom prst="line">
                <a:avLst/>
              </a:prstGeom>
              <a:ln w="12600">
                <a:solidFill>
                  <a:srgbClr val="ff0000"/>
                </a:solidFill>
                <a:prstDash val="sys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 txBox="1"/>
              <p:nvPr/>
            </p:nvSpPr>
            <p:spPr>
              <a:xfrm>
                <a:off x="4278240" y="2284560"/>
                <a:ext cx="360" cy="1150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6" name=""/>
            <p:cNvGrpSpPr/>
            <p:nvPr/>
          </p:nvGrpSpPr>
          <p:grpSpPr>
            <a:xfrm>
              <a:off x="6218640" y="2284560"/>
              <a:ext cx="360" cy="1150920"/>
              <a:chOff x="6218640" y="2284560"/>
              <a:chExt cx="360" cy="1150920"/>
            </a:xfrm>
          </p:grpSpPr>
          <p:sp>
            <p:nvSpPr>
              <p:cNvPr id="1057" name="直接连接符 19"/>
              <p:cNvSpPr/>
              <p:nvPr/>
            </p:nvSpPr>
            <p:spPr>
              <a:xfrm>
                <a:off x="6218640" y="2284560"/>
                <a:ext cx="0" cy="1150920"/>
              </a:xfrm>
              <a:prstGeom prst="line">
                <a:avLst/>
              </a:prstGeom>
              <a:ln w="12600">
                <a:solidFill>
                  <a:srgbClr val="ff0000"/>
                </a:solidFill>
                <a:prstDash val="sys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 txBox="1"/>
              <p:nvPr/>
            </p:nvSpPr>
            <p:spPr>
              <a:xfrm>
                <a:off x="6218640" y="2284560"/>
                <a:ext cx="360" cy="1150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59" name="Picture 72" descr="55"/>
            <p:cNvPicPr/>
            <p:nvPr/>
          </p:nvPicPr>
          <p:blipFill>
            <a:blip r:embed="rId14"/>
            <a:stretch/>
          </p:blipFill>
          <p:spPr>
            <a:xfrm>
              <a:off x="919080" y="2354400"/>
              <a:ext cx="712800" cy="100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0" name="Picture 73" descr="55"/>
            <p:cNvPicPr/>
            <p:nvPr/>
          </p:nvPicPr>
          <p:blipFill>
            <a:blip r:embed="rId15"/>
            <a:stretch/>
          </p:blipFill>
          <p:spPr>
            <a:xfrm>
              <a:off x="1555560" y="2354400"/>
              <a:ext cx="711000" cy="100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1" name="Rectangle 34"/>
          <p:cNvSpPr/>
          <p:nvPr/>
        </p:nvSpPr>
        <p:spPr>
          <a:xfrm>
            <a:off x="787320" y="855720"/>
            <a:ext cx="730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面彩旗，每班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面，可以分给几个班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2" name="组合 53"/>
          <p:cNvGrpSpPr/>
          <p:nvPr/>
        </p:nvGrpSpPr>
        <p:grpSpPr>
          <a:xfrm>
            <a:off x="519120" y="3514680"/>
            <a:ext cx="4552920" cy="995400"/>
            <a:chOff x="519120" y="3514680"/>
            <a:chExt cx="4552920" cy="995400"/>
          </a:xfrm>
        </p:grpSpPr>
        <p:pic>
          <p:nvPicPr>
            <p:cNvPr id="1063" name="图片 50" descr="E:\2017秋上·黄倩\其他\人\海豚.jpg海豚"/>
            <p:cNvPicPr/>
            <p:nvPr/>
          </p:nvPicPr>
          <p:blipFill>
            <a:blip r:embed="rId16"/>
            <a:stretch/>
          </p:blipFill>
          <p:spPr>
            <a:xfrm>
              <a:off x="519120" y="3569400"/>
              <a:ext cx="774000" cy="94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4" name="AutoShape 27"/>
            <p:cNvSpPr/>
            <p:nvPr/>
          </p:nvSpPr>
          <p:spPr>
            <a:xfrm>
              <a:off x="1696680" y="3514680"/>
              <a:ext cx="3375360" cy="910440"/>
            </a:xfrm>
            <a:prstGeom prst="wedgeRoundRectCallout">
              <a:avLst>
                <a:gd name="adj1" fmla="val -58268"/>
                <a:gd name="adj2" fmla="val -705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        ）个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是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，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0÷20=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        ）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5" name="TextBox 48"/>
          <p:cNvSpPr/>
          <p:nvPr/>
        </p:nvSpPr>
        <p:spPr>
          <a:xfrm>
            <a:off x="1285920" y="1714680"/>
            <a:ext cx="1271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80÷20=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     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八边形 7"/>
          <p:cNvSpPr/>
          <p:nvPr/>
        </p:nvSpPr>
        <p:spPr>
          <a:xfrm>
            <a:off x="216000" y="825480"/>
            <a:ext cx="522360" cy="51768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7" name="组合 1"/>
          <p:cNvGrpSpPr/>
          <p:nvPr/>
        </p:nvGrpSpPr>
        <p:grpSpPr>
          <a:xfrm>
            <a:off x="225360" y="784080"/>
            <a:ext cx="1884240" cy="459720"/>
            <a:chOff x="225360" y="784080"/>
            <a:chExt cx="1884240" cy="459720"/>
          </a:xfrm>
        </p:grpSpPr>
        <p:sp>
          <p:nvSpPr>
            <p:cNvPr id="1068" name="TextBox 3"/>
            <p:cNvSpPr/>
            <p:nvPr/>
          </p:nvSpPr>
          <p:spPr>
            <a:xfrm>
              <a:off x="329760" y="784080"/>
              <a:ext cx="177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zh-CN" sz="2400" spc="-1" strike="noStrike">
                  <a:solidFill>
                    <a:srgbClr val="00b0f0"/>
                  </a:solidFill>
                  <a:latin typeface="Arial"/>
                  <a:ea typeface="宋体"/>
                </a:rPr>
                <a:t>理解题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缺角矩形 37"/>
            <p:cNvSpPr/>
            <p:nvPr/>
          </p:nvSpPr>
          <p:spPr>
            <a:xfrm>
              <a:off x="225360" y="904680"/>
              <a:ext cx="215640" cy="215640"/>
            </a:xfrm>
            <a:custGeom>
              <a:avLst/>
              <a:gdLst>
                <a:gd name="textAreaLeft" fmla="*/ 25200 w 215640"/>
                <a:gd name="textAreaRight" fmla="*/ 190440 w 215640"/>
                <a:gd name="textAreaTop" fmla="*/ 25200 h 215640"/>
                <a:gd name="textAreaBottom" fmla="*/ 19044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8000" y="21600"/>
                  </a:lnTo>
                  <a:arcTo wR="3600" hR="3600" stAng="10800000" swAng="5400000"/>
                  <a:lnTo>
                    <a:pt x="216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b0f0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0" name="文本框 3"/>
          <p:cNvSpPr/>
          <p:nvPr/>
        </p:nvSpPr>
        <p:spPr>
          <a:xfrm>
            <a:off x="530280" y="1279440"/>
            <a:ext cx="814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有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面彩旗，每班分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面，求可以分给几个班，也就是求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里面有几个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用除法计算，列式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÷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题中每个算式中都有一个整十数，另一个是接近整十数的数，结果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“≈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连接，也就是用估算的方法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1" name="组合 6"/>
          <p:cNvGrpSpPr/>
          <p:nvPr/>
        </p:nvGrpSpPr>
        <p:grpSpPr>
          <a:xfrm>
            <a:off x="225360" y="3006720"/>
            <a:ext cx="8302680" cy="2553120"/>
            <a:chOff x="225360" y="3006720"/>
            <a:chExt cx="8302680" cy="2553120"/>
          </a:xfrm>
        </p:grpSpPr>
        <p:grpSp>
          <p:nvGrpSpPr>
            <p:cNvPr id="1072" name="组合 38"/>
            <p:cNvGrpSpPr/>
            <p:nvPr/>
          </p:nvGrpSpPr>
          <p:grpSpPr>
            <a:xfrm>
              <a:off x="225360" y="3006720"/>
              <a:ext cx="2147760" cy="459720"/>
              <a:chOff x="225360" y="3006720"/>
              <a:chExt cx="2147760" cy="459720"/>
            </a:xfrm>
          </p:grpSpPr>
          <p:sp>
            <p:nvSpPr>
              <p:cNvPr id="1073" name="TextBox 3"/>
              <p:cNvSpPr/>
              <p:nvPr/>
            </p:nvSpPr>
            <p:spPr>
              <a:xfrm>
                <a:off x="329760" y="3006720"/>
                <a:ext cx="2043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zh-CN" sz="2400" spc="-1" strike="noStrike">
                    <a:solidFill>
                      <a:srgbClr val="00b0f0"/>
                    </a:solidFill>
                    <a:latin typeface="Arial"/>
                    <a:ea typeface="宋体"/>
                  </a:rPr>
                  <a:t>解法探究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缺角矩形 40"/>
              <p:cNvSpPr/>
              <p:nvPr/>
            </p:nvSpPr>
            <p:spPr>
              <a:xfrm>
                <a:off x="225360" y="3127320"/>
                <a:ext cx="215640" cy="215640"/>
              </a:xfrm>
              <a:custGeom>
                <a:avLst/>
                <a:gdLst>
                  <a:gd name="textAreaLeft" fmla="*/ 25200 w 215640"/>
                  <a:gd name="textAreaRight" fmla="*/ 190440 w 215640"/>
                  <a:gd name="textAreaTop" fmla="*/ 25200 h 215640"/>
                  <a:gd name="textAreaBottom" fmla="*/ 190440 h 21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600" y="0"/>
                    </a:moveTo>
                    <a:arcTo wR="3600" hR="3600" stAng="0" swAng="5400000"/>
                    <a:lnTo>
                      <a:pt x="0" y="18000"/>
                    </a:lnTo>
                    <a:arcTo wR="3600" hR="3600" stAng="16200000" swAng="5400000"/>
                    <a:lnTo>
                      <a:pt x="18000" y="21600"/>
                    </a:lnTo>
                    <a:arcTo wR="3600" hR="3600" stAng="10800000" swAng="5400000"/>
                    <a:lnTo>
                      <a:pt x="21600" y="3600"/>
                    </a:lnTo>
                    <a:arcTo wR="3600" hR="3600" stAng="5400000" swAng="5400000"/>
                    <a:close/>
                  </a:path>
                </a:pathLst>
              </a:custGeom>
              <a:solidFill>
                <a:srgbClr val="00b0f0"/>
              </a:solidFill>
              <a:ln w="1260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5" name="文本框 4"/>
            <p:cNvSpPr/>
            <p:nvPr/>
          </p:nvSpPr>
          <p:spPr>
            <a:xfrm>
              <a:off x="615240" y="3637080"/>
              <a:ext cx="79128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除法是乘法的逆运算。因为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×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=80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，所以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÷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0=4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估算时，通常把算式中不是整十数的用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四舍五入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法看作与它接近的整十数，然后用整十数除以整十数口算出结果。本题中分别把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3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看作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，把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看作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，然后口算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6" name="组合 41"/>
          <p:cNvGrpSpPr/>
          <p:nvPr/>
        </p:nvGrpSpPr>
        <p:grpSpPr>
          <a:xfrm>
            <a:off x="324000" y="766800"/>
            <a:ext cx="2147400" cy="459720"/>
            <a:chOff x="324000" y="766800"/>
            <a:chExt cx="2147400" cy="459720"/>
          </a:xfrm>
        </p:grpSpPr>
        <p:sp>
          <p:nvSpPr>
            <p:cNvPr id="1077" name="TextBox 3"/>
            <p:cNvSpPr/>
            <p:nvPr/>
          </p:nvSpPr>
          <p:spPr>
            <a:xfrm>
              <a:off x="428400" y="766800"/>
              <a:ext cx="20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zh-CN" sz="2400" spc="-1" strike="noStrike">
                  <a:solidFill>
                    <a:srgbClr val="00b0f0"/>
                  </a:solidFill>
                  <a:latin typeface="Arial"/>
                  <a:ea typeface="宋体"/>
                </a:rPr>
                <a:t>规范解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缺角矩形 43"/>
            <p:cNvSpPr/>
            <p:nvPr/>
          </p:nvSpPr>
          <p:spPr>
            <a:xfrm>
              <a:off x="324000" y="887400"/>
              <a:ext cx="215640" cy="215640"/>
            </a:xfrm>
            <a:custGeom>
              <a:avLst/>
              <a:gdLst>
                <a:gd name="textAreaLeft" fmla="*/ 25200 w 215640"/>
                <a:gd name="textAreaRight" fmla="*/ 190440 w 215640"/>
                <a:gd name="textAreaTop" fmla="*/ 25200 h 215640"/>
                <a:gd name="textAreaBottom" fmla="*/ 19044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8000" y="21600"/>
                  </a:lnTo>
                  <a:arcTo wR="3600" hR="3600" stAng="10800000" swAng="5400000"/>
                  <a:lnTo>
                    <a:pt x="216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b0f0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9" name="文本框 6"/>
          <p:cNvSpPr/>
          <p:nvPr/>
        </p:nvSpPr>
        <p:spPr>
          <a:xfrm>
            <a:off x="423720" y="1162080"/>
            <a:ext cx="8383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=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个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答：可以分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≈4            8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≈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TextBox 4"/>
          <p:cNvSpPr/>
          <p:nvPr/>
        </p:nvSpPr>
        <p:spPr>
          <a:xfrm>
            <a:off x="142920" y="1714680"/>
            <a:ext cx="1200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. 60÷20=           90÷30= 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  40÷20=         100÷20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62÷20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≈      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93÷30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≈     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2÷20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≈     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03÷20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≈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TextBox 6"/>
          <p:cNvSpPr/>
          <p:nvPr/>
        </p:nvSpPr>
        <p:spPr>
          <a:xfrm>
            <a:off x="1554120" y="1879560"/>
            <a:ext cx="428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TextBox 16"/>
          <p:cNvSpPr/>
          <p:nvPr/>
        </p:nvSpPr>
        <p:spPr>
          <a:xfrm>
            <a:off x="3619440" y="1851120"/>
            <a:ext cx="4287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TextBox 17"/>
          <p:cNvSpPr/>
          <p:nvPr/>
        </p:nvSpPr>
        <p:spPr>
          <a:xfrm>
            <a:off x="5537160" y="1830240"/>
            <a:ext cx="428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TextBox 18"/>
          <p:cNvSpPr/>
          <p:nvPr/>
        </p:nvSpPr>
        <p:spPr>
          <a:xfrm>
            <a:off x="7664400" y="1878120"/>
            <a:ext cx="4287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TextBox 19"/>
          <p:cNvSpPr/>
          <p:nvPr/>
        </p:nvSpPr>
        <p:spPr>
          <a:xfrm>
            <a:off x="1565280" y="2422440"/>
            <a:ext cx="428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TextBox 20"/>
          <p:cNvSpPr/>
          <p:nvPr/>
        </p:nvSpPr>
        <p:spPr>
          <a:xfrm>
            <a:off x="3630600" y="2435400"/>
            <a:ext cx="4287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TextBox 21"/>
          <p:cNvSpPr/>
          <p:nvPr/>
        </p:nvSpPr>
        <p:spPr>
          <a:xfrm>
            <a:off x="5548320" y="2406600"/>
            <a:ext cx="428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TextBox 22"/>
          <p:cNvSpPr/>
          <p:nvPr/>
        </p:nvSpPr>
        <p:spPr>
          <a:xfrm>
            <a:off x="7763040" y="2448000"/>
            <a:ext cx="4284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9" name="组合 26"/>
          <p:cNvGrpSpPr/>
          <p:nvPr/>
        </p:nvGrpSpPr>
        <p:grpSpPr>
          <a:xfrm>
            <a:off x="1928880" y="3429000"/>
            <a:ext cx="5792760" cy="1428840"/>
            <a:chOff x="1928880" y="3429000"/>
            <a:chExt cx="5792760" cy="1428840"/>
          </a:xfrm>
        </p:grpSpPr>
        <p:pic>
          <p:nvPicPr>
            <p:cNvPr id="1090" name="图片 25" descr="00.gif"/>
            <p:cNvPicPr/>
            <p:nvPr/>
          </p:nvPicPr>
          <p:blipFill>
            <a:blip r:embed="rId1"/>
            <a:stretch/>
          </p:blipFill>
          <p:spPr>
            <a:xfrm>
              <a:off x="6357240" y="3429000"/>
              <a:ext cx="1364400" cy="14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1" name="TextBox 23"/>
            <p:cNvSpPr/>
            <p:nvPr/>
          </p:nvSpPr>
          <p:spPr>
            <a:xfrm>
              <a:off x="1928880" y="3500280"/>
              <a:ext cx="9140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注意观察每组算式有什么不同？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圆角矩形标注 24"/>
            <p:cNvSpPr/>
            <p:nvPr/>
          </p:nvSpPr>
          <p:spPr>
            <a:xfrm>
              <a:off x="1928880" y="3500280"/>
              <a:ext cx="4428360" cy="500040"/>
            </a:xfrm>
            <a:prstGeom prst="wedgeRoundRectCallout">
              <a:avLst>
                <a:gd name="adj1" fmla="val 50814"/>
                <a:gd name="adj2" fmla="val 89254"/>
                <a:gd name="adj3" fmla="val 16667"/>
              </a:avLst>
            </a:prstGeom>
            <a:noFill/>
            <a:ln w="2556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3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94" name="圆角矩形 5" descr=""/>
            <p:cNvPicPr/>
            <p:nvPr/>
          </p:nvPicPr>
          <p:blipFill>
            <a:blip r:embed="rId2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95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96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7" name="椭圆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8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9" name="椭圆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0" name="圆角矩形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1" name="圆角矩形 32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2" name="圆角矩形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3" name="圆角矩形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04" name="Rectangle 64"/>
          <p:cNvSpPr/>
          <p:nvPr/>
        </p:nvSpPr>
        <p:spPr>
          <a:xfrm>
            <a:off x="430200" y="196920"/>
            <a:ext cx="2876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三、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5" name="组合 41"/>
          <p:cNvGrpSpPr/>
          <p:nvPr/>
        </p:nvGrpSpPr>
        <p:grpSpPr>
          <a:xfrm>
            <a:off x="356760" y="2143080"/>
            <a:ext cx="4764600" cy="1922400"/>
            <a:chOff x="356760" y="2143080"/>
            <a:chExt cx="4764600" cy="1922400"/>
          </a:xfrm>
        </p:grpSpPr>
        <p:sp>
          <p:nvSpPr>
            <p:cNvPr id="1106" name="AutoShape 27"/>
            <p:cNvSpPr/>
            <p:nvPr/>
          </p:nvSpPr>
          <p:spPr>
            <a:xfrm>
              <a:off x="1643040" y="2143080"/>
              <a:ext cx="3478320" cy="987480"/>
            </a:xfrm>
            <a:prstGeom prst="wedgeRoundRectCallout">
              <a:avLst>
                <a:gd name="adj1" fmla="val -56013"/>
                <a:gd name="adj2" fmla="val -328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       ）个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是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，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50÷50=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       ）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7" name="图片 31" descr="234768-14051F0212184.jpg"/>
            <p:cNvPicPr/>
            <p:nvPr/>
          </p:nvPicPr>
          <p:blipFill>
            <a:blip r:embed="rId1"/>
            <a:stretch/>
          </p:blipFill>
          <p:spPr>
            <a:xfrm flipH="1">
              <a:off x="356760" y="2643120"/>
              <a:ext cx="928440" cy="1422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8" name="组合 42"/>
          <p:cNvGrpSpPr/>
          <p:nvPr/>
        </p:nvGrpSpPr>
        <p:grpSpPr>
          <a:xfrm>
            <a:off x="4000680" y="3286080"/>
            <a:ext cx="3956040" cy="1571760"/>
            <a:chOff x="4000680" y="3286080"/>
            <a:chExt cx="3956040" cy="1571760"/>
          </a:xfrm>
        </p:grpSpPr>
        <p:pic>
          <p:nvPicPr>
            <p:cNvPr id="1109" name="图片 32" descr="20087116614671_2.jpg"/>
            <p:cNvPicPr/>
            <p:nvPr/>
          </p:nvPicPr>
          <p:blipFill>
            <a:blip r:embed="rId2"/>
            <a:stretch/>
          </p:blipFill>
          <p:spPr>
            <a:xfrm>
              <a:off x="6960960" y="3286080"/>
              <a:ext cx="99576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0" name="AutoShape 27"/>
            <p:cNvSpPr/>
            <p:nvPr/>
          </p:nvSpPr>
          <p:spPr>
            <a:xfrm>
              <a:off x="4000680" y="3443040"/>
              <a:ext cx="2855520" cy="1008360"/>
            </a:xfrm>
            <a:prstGeom prst="wedgeRoundRectCallout">
              <a:avLst>
                <a:gd name="adj1" fmla="val 57402"/>
                <a:gd name="adj2" fmla="val -362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5</a:t>
              </a:r>
              <a:r>
                <a:rPr b="0" lang="en-US" sz="2400" spc="-1" strike="noStrike">
                  <a:solidFill>
                    <a:srgbClr val="000000"/>
                  </a:solidFill>
                  <a:latin typeface="宋体"/>
                </a:rPr>
                <a:t>÷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=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（      ）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50</a:t>
              </a:r>
              <a:r>
                <a:rPr b="0" lang="en-US" sz="2400" spc="-1" strike="noStrike">
                  <a:solidFill>
                    <a:srgbClr val="000000"/>
                  </a:solidFill>
                  <a:latin typeface="宋体"/>
                </a:rPr>
                <a:t>÷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0=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（      ）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1" name="组合 36"/>
          <p:cNvGrpSpPr/>
          <p:nvPr/>
        </p:nvGrpSpPr>
        <p:grpSpPr>
          <a:xfrm>
            <a:off x="2428920" y="5500440"/>
            <a:ext cx="784080" cy="623520"/>
            <a:chOff x="2428920" y="5500440"/>
            <a:chExt cx="784080" cy="623520"/>
          </a:xfrm>
        </p:grpSpPr>
        <p:cxnSp>
          <p:nvCxnSpPr>
            <p:cNvPr id="1112" name="直接箭头连接符 7"/>
            <p:cNvCxnSpPr/>
            <p:nvPr/>
          </p:nvCxnSpPr>
          <p:spPr>
            <a:xfrm>
              <a:off x="2758680" y="5500440"/>
              <a:ext cx="1080" cy="199080"/>
            </a:xfrm>
            <a:prstGeom prst="straightConnector1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</p:cxnSp>
        <p:sp>
          <p:nvSpPr>
            <p:cNvPr id="1113" name="文本框 5137"/>
            <p:cNvSpPr/>
            <p:nvPr/>
          </p:nvSpPr>
          <p:spPr>
            <a:xfrm>
              <a:off x="2428920" y="5664240"/>
              <a:ext cx="7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1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4" name="组合 37"/>
          <p:cNvGrpSpPr/>
          <p:nvPr/>
        </p:nvGrpSpPr>
        <p:grpSpPr>
          <a:xfrm>
            <a:off x="5889600" y="5500440"/>
            <a:ext cx="662040" cy="623520"/>
            <a:chOff x="5889600" y="5500440"/>
            <a:chExt cx="662040" cy="623520"/>
          </a:xfrm>
        </p:grpSpPr>
        <p:cxnSp>
          <p:nvCxnSpPr>
            <p:cNvPr id="1115" name="直接箭头连接符 8"/>
            <p:cNvCxnSpPr/>
            <p:nvPr/>
          </p:nvCxnSpPr>
          <p:spPr>
            <a:xfrm>
              <a:off x="6221160" y="5500440"/>
              <a:ext cx="1080" cy="199080"/>
            </a:xfrm>
            <a:prstGeom prst="straightConnector1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</p:cxnSp>
        <p:sp>
          <p:nvSpPr>
            <p:cNvPr id="1116" name="文本框 75"/>
            <p:cNvSpPr/>
            <p:nvPr/>
          </p:nvSpPr>
          <p:spPr>
            <a:xfrm>
              <a:off x="5889600" y="5664240"/>
              <a:ext cx="66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7" name="文本框 70"/>
          <p:cNvSpPr/>
          <p:nvPr/>
        </p:nvSpPr>
        <p:spPr>
          <a:xfrm>
            <a:off x="5332320" y="3525840"/>
            <a:ext cx="6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文本框 71"/>
          <p:cNvSpPr/>
          <p:nvPr/>
        </p:nvSpPr>
        <p:spPr>
          <a:xfrm>
            <a:off x="5710320" y="3975120"/>
            <a:ext cx="60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文本框 72"/>
          <p:cNvSpPr/>
          <p:nvPr/>
        </p:nvSpPr>
        <p:spPr>
          <a:xfrm>
            <a:off x="2076480" y="2254320"/>
            <a:ext cx="60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文本框 74"/>
          <p:cNvSpPr/>
          <p:nvPr/>
        </p:nvSpPr>
        <p:spPr>
          <a:xfrm>
            <a:off x="3430440" y="2698920"/>
            <a:ext cx="6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1" name="组合 40"/>
          <p:cNvGrpSpPr/>
          <p:nvPr/>
        </p:nvGrpSpPr>
        <p:grpSpPr>
          <a:xfrm>
            <a:off x="4000680" y="785880"/>
            <a:ext cx="4860720" cy="2286000"/>
            <a:chOff x="4000680" y="785880"/>
            <a:chExt cx="4860720" cy="2286000"/>
          </a:xfrm>
        </p:grpSpPr>
        <p:pic>
          <p:nvPicPr>
            <p:cNvPr id="1122" name="图片 30" descr="0.gif"/>
            <p:cNvPicPr/>
            <p:nvPr/>
          </p:nvPicPr>
          <p:blipFill>
            <a:blip r:embed="rId3"/>
            <a:stretch/>
          </p:blipFill>
          <p:spPr>
            <a:xfrm>
              <a:off x="7500600" y="1643040"/>
              <a:ext cx="1360800" cy="14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3" name="AutoShape 27"/>
            <p:cNvSpPr/>
            <p:nvPr/>
          </p:nvSpPr>
          <p:spPr>
            <a:xfrm>
              <a:off x="4000680" y="785880"/>
              <a:ext cx="3453480" cy="1000080"/>
            </a:xfrm>
            <a:prstGeom prst="wedgeRoundRectCallout">
              <a:avLst>
                <a:gd name="adj1" fmla="val 57222"/>
                <a:gd name="adj2" fmla="val 3808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你知道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方正楷体简体"/>
                </a:rPr>
                <a:t>150</a:t>
              </a:r>
              <a:r>
                <a:rPr b="0" lang="en-US" sz="2400" spc="-1" strike="noStrike">
                  <a:solidFill>
                    <a:srgbClr val="000000"/>
                  </a:solidFill>
                  <a:latin typeface="宋体"/>
                </a:rPr>
                <a:t>÷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方正楷体简体"/>
                </a:rPr>
                <a:t>50</a:t>
              </a:r>
              <a:r>
                <a:rPr b="0" lang="zh-CN" sz="24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等于几吗？你是怎么想的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4" name="TextBox 28"/>
          <p:cNvSpPr/>
          <p:nvPr/>
        </p:nvSpPr>
        <p:spPr>
          <a:xfrm>
            <a:off x="357120" y="8002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50÷50=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文本框 72"/>
          <p:cNvSpPr/>
          <p:nvPr/>
        </p:nvSpPr>
        <p:spPr>
          <a:xfrm>
            <a:off x="2146320" y="789120"/>
            <a:ext cx="60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TextBox 35"/>
          <p:cNvSpPr/>
          <p:nvPr/>
        </p:nvSpPr>
        <p:spPr>
          <a:xfrm>
            <a:off x="1071720" y="50720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想一想：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22÷30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≈</a:t>
            </a:r>
            <a:r>
              <a:rPr b="0" lang="zh-CN" sz="25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20÷28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≈</a:t>
            </a:r>
            <a:r>
              <a:rPr b="0" lang="zh-CN" sz="25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文本框 72"/>
          <p:cNvSpPr/>
          <p:nvPr/>
        </p:nvSpPr>
        <p:spPr>
          <a:xfrm>
            <a:off x="3929040" y="5072040"/>
            <a:ext cx="6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文本框 72"/>
          <p:cNvSpPr/>
          <p:nvPr/>
        </p:nvSpPr>
        <p:spPr>
          <a:xfrm>
            <a:off x="7000920" y="5072040"/>
            <a:ext cx="60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八边形 7"/>
          <p:cNvSpPr/>
          <p:nvPr/>
        </p:nvSpPr>
        <p:spPr>
          <a:xfrm>
            <a:off x="314280" y="779400"/>
            <a:ext cx="522360" cy="51768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0" name="组合 43"/>
          <p:cNvGrpSpPr/>
          <p:nvPr/>
        </p:nvGrpSpPr>
        <p:grpSpPr>
          <a:xfrm>
            <a:off x="1571760" y="1285920"/>
            <a:ext cx="6554520" cy="1285920"/>
            <a:chOff x="1571760" y="1285920"/>
            <a:chExt cx="6554520" cy="1285920"/>
          </a:xfrm>
        </p:grpSpPr>
        <p:sp>
          <p:nvSpPr>
            <p:cNvPr id="1131" name="TextBox 27"/>
            <p:cNvSpPr/>
            <p:nvPr/>
          </p:nvSpPr>
          <p:spPr>
            <a:xfrm>
              <a:off x="1571760" y="1428480"/>
              <a:ext cx="9144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口算下面各题，并说一说你是怎么想的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2" name="图片 28" descr="234768-14051F0212184.jpg"/>
            <p:cNvPicPr/>
            <p:nvPr/>
          </p:nvPicPr>
          <p:blipFill>
            <a:blip r:embed="rId1"/>
            <a:stretch/>
          </p:blipFill>
          <p:spPr>
            <a:xfrm>
              <a:off x="7286760" y="1285920"/>
              <a:ext cx="83952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3" name="圆角矩形标注 30"/>
            <p:cNvSpPr/>
            <p:nvPr/>
          </p:nvSpPr>
          <p:spPr>
            <a:xfrm>
              <a:off x="1571760" y="1428480"/>
              <a:ext cx="5643720" cy="500040"/>
            </a:xfrm>
            <a:prstGeom prst="wedgeRoundRectCallout">
              <a:avLst>
                <a:gd name="adj1" fmla="val 49902"/>
                <a:gd name="adj2" fmla="val 89254"/>
                <a:gd name="adj3" fmla="val 16667"/>
              </a:avLst>
            </a:prstGeom>
            <a:noFill/>
            <a:ln w="2556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4" name="组合 32"/>
          <p:cNvGrpSpPr/>
          <p:nvPr/>
        </p:nvGrpSpPr>
        <p:grpSpPr>
          <a:xfrm>
            <a:off x="714240" y="4573440"/>
            <a:ext cx="7143840" cy="1690920"/>
            <a:chOff x="714240" y="4573440"/>
            <a:chExt cx="7143840" cy="1690920"/>
          </a:xfrm>
        </p:grpSpPr>
        <p:pic>
          <p:nvPicPr>
            <p:cNvPr id="1135" name="图片 29" descr="20087116614671_2.jpg"/>
            <p:cNvPicPr/>
            <p:nvPr/>
          </p:nvPicPr>
          <p:blipFill>
            <a:blip r:embed="rId2"/>
            <a:stretch/>
          </p:blipFill>
          <p:spPr>
            <a:xfrm flipH="1">
              <a:off x="714240" y="4573440"/>
              <a:ext cx="1121760" cy="16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6" name="AutoShape 27"/>
            <p:cNvSpPr/>
            <p:nvPr/>
          </p:nvSpPr>
          <p:spPr>
            <a:xfrm>
              <a:off x="1836000" y="4859280"/>
              <a:ext cx="6022080" cy="1000440"/>
            </a:xfrm>
            <a:prstGeom prst="wedgeRoundRectCallout">
              <a:avLst>
                <a:gd name="adj1" fmla="val -53657"/>
                <a:gd name="adj2" fmla="val -389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84÷30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我是这么想的：把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84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看成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80÷30=6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，所以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84÷30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≈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7" name="TextBox 34"/>
          <p:cNvSpPr/>
          <p:nvPr/>
        </p:nvSpPr>
        <p:spPr>
          <a:xfrm>
            <a:off x="73080" y="2637000"/>
            <a:ext cx="1128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. 180÷30=        240÷40=        420÷60=        210÷30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84÷30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≈   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40÷37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≈   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20÷62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≈    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10÷29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≈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8" name="组合 63"/>
          <p:cNvGrpSpPr/>
          <p:nvPr/>
        </p:nvGrpSpPr>
        <p:grpSpPr>
          <a:xfrm>
            <a:off x="395280" y="3746160"/>
            <a:ext cx="806400" cy="617400"/>
            <a:chOff x="395280" y="3746160"/>
            <a:chExt cx="806400" cy="617400"/>
          </a:xfrm>
        </p:grpSpPr>
        <p:cxnSp>
          <p:nvCxnSpPr>
            <p:cNvPr id="1139" name="直接箭头连接符 44"/>
            <p:cNvCxnSpPr/>
            <p:nvPr/>
          </p:nvCxnSpPr>
          <p:spPr>
            <a:xfrm>
              <a:off x="794880" y="3746160"/>
              <a:ext cx="1080" cy="199080"/>
            </a:xfrm>
            <a:prstGeom prst="straightConnector1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</p:cxnSp>
        <p:sp>
          <p:nvSpPr>
            <p:cNvPr id="1140" name="文本框 25"/>
            <p:cNvSpPr/>
            <p:nvPr/>
          </p:nvSpPr>
          <p:spPr>
            <a:xfrm>
              <a:off x="395280" y="3903840"/>
              <a:ext cx="80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1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1" name="文本框 26"/>
          <p:cNvSpPr/>
          <p:nvPr/>
        </p:nvSpPr>
        <p:spPr>
          <a:xfrm>
            <a:off x="1644480" y="3351240"/>
            <a:ext cx="6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文本框 27"/>
          <p:cNvSpPr/>
          <p:nvPr/>
        </p:nvSpPr>
        <p:spPr>
          <a:xfrm>
            <a:off x="1722600" y="2819520"/>
            <a:ext cx="60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文本框 30"/>
          <p:cNvSpPr/>
          <p:nvPr/>
        </p:nvSpPr>
        <p:spPr>
          <a:xfrm>
            <a:off x="3576600" y="3357720"/>
            <a:ext cx="6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文本框 31"/>
          <p:cNvSpPr/>
          <p:nvPr/>
        </p:nvSpPr>
        <p:spPr>
          <a:xfrm>
            <a:off x="3716280" y="2819520"/>
            <a:ext cx="6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文本框 34"/>
          <p:cNvSpPr/>
          <p:nvPr/>
        </p:nvSpPr>
        <p:spPr>
          <a:xfrm>
            <a:off x="5554800" y="3349800"/>
            <a:ext cx="6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文本框 35"/>
          <p:cNvSpPr/>
          <p:nvPr/>
        </p:nvSpPr>
        <p:spPr>
          <a:xfrm>
            <a:off x="5621400" y="2827440"/>
            <a:ext cx="60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文本框 38"/>
          <p:cNvSpPr/>
          <p:nvPr/>
        </p:nvSpPr>
        <p:spPr>
          <a:xfrm>
            <a:off x="7574040" y="3382920"/>
            <a:ext cx="6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文本框 39"/>
          <p:cNvSpPr/>
          <p:nvPr/>
        </p:nvSpPr>
        <p:spPr>
          <a:xfrm>
            <a:off x="7574040" y="2793960"/>
            <a:ext cx="60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9" name="组合 64"/>
          <p:cNvGrpSpPr/>
          <p:nvPr/>
        </p:nvGrpSpPr>
        <p:grpSpPr>
          <a:xfrm>
            <a:off x="2954160" y="3798360"/>
            <a:ext cx="601920" cy="612720"/>
            <a:chOff x="2954160" y="3798360"/>
            <a:chExt cx="601920" cy="612720"/>
          </a:xfrm>
        </p:grpSpPr>
        <p:sp>
          <p:nvSpPr>
            <p:cNvPr id="1150" name="文本框 29"/>
            <p:cNvSpPr/>
            <p:nvPr/>
          </p:nvSpPr>
          <p:spPr>
            <a:xfrm>
              <a:off x="2954160" y="3951360"/>
              <a:ext cx="60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51" name="直接箭头连接符 57"/>
            <p:cNvCxnSpPr/>
            <p:nvPr/>
          </p:nvCxnSpPr>
          <p:spPr>
            <a:xfrm>
              <a:off x="3220560" y="3798360"/>
              <a:ext cx="1080" cy="199080"/>
            </a:xfrm>
            <a:prstGeom prst="straightConnector1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</p:cxnSp>
      </p:grpSp>
      <p:grpSp>
        <p:nvGrpSpPr>
          <p:cNvPr id="1152" name="组合 65"/>
          <p:cNvGrpSpPr/>
          <p:nvPr/>
        </p:nvGrpSpPr>
        <p:grpSpPr>
          <a:xfrm>
            <a:off x="4941720" y="3785760"/>
            <a:ext cx="601920" cy="605880"/>
            <a:chOff x="4941720" y="3785760"/>
            <a:chExt cx="601920" cy="605880"/>
          </a:xfrm>
        </p:grpSpPr>
        <p:sp>
          <p:nvSpPr>
            <p:cNvPr id="1153" name="文本框 33"/>
            <p:cNvSpPr/>
            <p:nvPr/>
          </p:nvSpPr>
          <p:spPr>
            <a:xfrm>
              <a:off x="4941720" y="3931920"/>
              <a:ext cx="60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54" name="直接箭头连接符 58"/>
            <p:cNvCxnSpPr/>
            <p:nvPr/>
          </p:nvCxnSpPr>
          <p:spPr>
            <a:xfrm>
              <a:off x="5227200" y="3785760"/>
              <a:ext cx="1080" cy="199080"/>
            </a:xfrm>
            <a:prstGeom prst="straightConnector1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</p:cxnSp>
      </p:grpSp>
      <p:grpSp>
        <p:nvGrpSpPr>
          <p:cNvPr id="1155" name="组合 66"/>
          <p:cNvGrpSpPr/>
          <p:nvPr/>
        </p:nvGrpSpPr>
        <p:grpSpPr>
          <a:xfrm>
            <a:off x="6953400" y="3752640"/>
            <a:ext cx="601560" cy="605880"/>
            <a:chOff x="6953400" y="3752640"/>
            <a:chExt cx="601560" cy="605880"/>
          </a:xfrm>
        </p:grpSpPr>
        <p:sp>
          <p:nvSpPr>
            <p:cNvPr id="1156" name="文本框 33"/>
            <p:cNvSpPr/>
            <p:nvPr/>
          </p:nvSpPr>
          <p:spPr>
            <a:xfrm>
              <a:off x="6953400" y="3898800"/>
              <a:ext cx="60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57" name="直接箭头连接符 62"/>
            <p:cNvCxnSpPr/>
            <p:nvPr/>
          </p:nvCxnSpPr>
          <p:spPr>
            <a:xfrm>
              <a:off x="7238880" y="3752640"/>
              <a:ext cx="1080" cy="199080"/>
            </a:xfrm>
            <a:prstGeom prst="straightConnector1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</p:cxnSp>
      </p:grp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59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60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61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2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3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69" name="Rectangle 64"/>
          <p:cNvSpPr/>
          <p:nvPr/>
        </p:nvSpPr>
        <p:spPr>
          <a:xfrm>
            <a:off x="365040" y="76320"/>
            <a:ext cx="29466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四、课堂小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TextBox 32"/>
          <p:cNvSpPr/>
          <p:nvPr/>
        </p:nvSpPr>
        <p:spPr>
          <a:xfrm>
            <a:off x="179280" y="1119240"/>
            <a:ext cx="84488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整十数除以整十数的口算方法：①根据乘除法的关系想乘法算除法。②利用表内除法计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   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估算：把非整十数按照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四舍五入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法看作与它接近的整十数，然后口算出结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2T01:07:42Z</dcterms:created>
  <dc:creator/>
  <dc:description/>
  <dc:language>en-US</dc:language>
  <cp:lastModifiedBy>万润仪器贸易公司</cp:lastModifiedBy>
  <dcterms:modified xsi:type="dcterms:W3CDTF">2020-08-21T08:59:00Z</dcterms:modified>
  <cp:revision>2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